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ADC-CBCA-4241-A4EF-129D7DB0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C79F-1580-48A7-9F7A-25818FE6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F76-DF2B-497C-8190-9F2A6CFD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72A-DFB6-46F7-BEF0-6A972FC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7A6-BD9E-43D6-8F39-26C56BE3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55C-2D7E-45EC-B090-9ACDE930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DD4-F06E-412B-83BB-A1A8F6F2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60A-365C-487A-AF66-8C388793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D88-8913-448E-984A-B15C3127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F90-045C-4033-B2E3-BFD3667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E20-7C4E-4152-BBA9-1BDC651C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E88-6CC4-4D2A-8E23-BC45A2E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F34-49F8-4F4B-A405-17D5474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90B-AC32-476E-9F16-FB3F5F9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9C72-6239-4BF2-9C33-EC191264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难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醒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去玩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 friend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都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一条狗回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又累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擦粉色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 Good nigh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。晚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猫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is smaller than the c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牛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回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一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726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4-16T17:34:52Z</dcterms:modified>
  <cp:revision>4</cp:revision>
  <dc:subject/>
  <dc:title>The Dog</dc:title>
</cp:coreProperties>
</file>